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s-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0474F-C8EE-4F13-BB0B-C3C592536F5D}" type="slidenum">
              <a:rPr b="0" lang="ms-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6D3C8-59D5-4F02-AAE0-0F52F087E024}"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4CC2D-BB2E-43B7-960B-3F1DBED63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CB15-333C-451C-A022-82930C6F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BC71C-89CE-4E31-9A51-451C00AD7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832E8-1262-4633-A1FB-CB08A15BF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2DD2D-4724-465E-92D5-463EB1C9C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9F183-E6C7-45B3-AC47-2087CEAE6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21055-0C0D-4902-ADAC-DA21BF216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E474F-050F-45FB-BB70-8A10B700B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A2A85-5225-43D8-9D99-339E8B21F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1AF8E-335D-4127-B70A-DF1A1C5E9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E8850-2401-459D-83EB-C9F721BD8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2B680-53DB-4694-8C71-F220BDD2D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01D28-9A43-4AD1-86A4-31665466D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71911-9D72-45A3-AE62-BD022AFCD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EDB34-5E2B-4F66-B353-EFA1E545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AD2D9-EC10-4C71-8691-2B6F265F7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30ED9-013A-4C8E-90DB-03916DF8A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FEF04-E44C-4ADC-999B-85E98DE79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57E20-C9C9-425C-B9B2-514B93160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1FBF4-2C32-4A37-9073-042F2ADDB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3FBA8-8540-40CB-AD7A-2F1F36812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CF64D-48CE-4E8A-AAE5-9759AF26A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D5E40-CF5E-4DE6-911C-FDB1A8F1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6AA4C-A5F7-443C-A643-AC6274567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CF6BA-8A6C-4BC8-8CB3-F4E6E76F3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4B27D-3018-49D9-8691-8619EAAD0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79868-C8ED-4E18-BB7B-A516B6FC1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2611A-F303-4E96-939D-ECC73EB25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83F357-C3C9-42AD-9CF1-E3FEF3673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3AFD0-5C43-417A-A6FD-98B690122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E02AC2-FEC2-45C6-9223-52A0AF807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CCC9B-B39A-4825-BE9B-C4C6036E0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E75D1-55D4-4949-87BD-51588F29B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9F62-DBB8-401B-9DFA-05EC7607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E58ED-D232-492D-91DD-8A517A55D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16E14-06E0-480A-B240-DE993F39AC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9A64B-2550-4D49-BD5D-012B6BB27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5493D-E43E-4F99-84E3-9C4F9A1F9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0C052-3B67-457F-8488-9C0EDDEA3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C6E95-1595-472B-B050-97FFB3B37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5012D-882E-4C84-B8B1-AB5D9A768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058E0-2B80-4F69-97A2-A710EC529A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FD80E-D73E-4BB2-9212-EB7BFD45F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24C9C-1779-4C19-89D5-9EC16391DE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F7E8C-E18B-4C13-B33C-DCF4942D5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FF14DA-65DD-4A34-AECB-2924CA511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B1829-5C95-48E5-AE05-4CEC30AE3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91778-F3F3-4936-9EDC-A5EBA2822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31B32-311E-466A-9DE4-F80E04575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7F167-98F5-447D-AA44-F230937085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819F3-FFD0-49AD-A20A-CD3BBDA3E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02825-2E23-49B7-A2AD-ED64861ADF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5C4B4-95C2-49BA-BCEE-E75E2DCC7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72715-9194-499E-921E-642E7FCDB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EFD3CC-31D2-4C93-87A5-1E8FA217ED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AFB9-6E4F-477C-A44D-D5A5C9B6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5E4DCB-2B88-42F6-94C7-C3B0D7297B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106E84-73AD-40C9-AFAB-197420A114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E065C8-472F-40A9-B456-C9D0AAE4E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A8A8C-E314-48A2-BD00-B20C1BBFB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F7605-4A43-4518-8BAD-AFF5F8652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AE898-2A83-4F04-AB2B-1D478F631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1D49A-EFB5-4952-9114-3D5AB523C0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FFFC5-3602-4B67-9DDC-B6D39D5B9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468C6-BF12-4716-B410-618635619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BB814-3B66-4329-AA38-FB171B9E1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A77B-8E36-45EC-8B1A-3E8E2DC2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54844-332C-4489-9FD0-ABC96D5375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E58885-F9D6-4B79-824C-B2FA16ED64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B67EFF-D33C-47E0-B473-0C05DCF17A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16B2BA-B3DC-40B4-8A89-427223D509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316255-A0FD-462C-A18E-1B7D4E5D0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A9BF5-784C-4EEE-8B2B-D9F8A6FEA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5BC91F-E932-4D61-A704-11A00092E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3EABB-C1A4-426B-BBBC-9123C5C64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43EE7-5D79-40C0-9D94-D3FC3A5394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D489F-104A-436B-9599-777890D51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2355-F162-4787-8C05-9F05E090C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72F82-2B08-448E-88BB-A5F4AB816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524E1-C802-4FAB-B19B-750655155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D3C43-AF06-4322-BFFE-D4BDFA5FC0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41BCD0-0796-4A16-9CD1-2E328B69D2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391FA7-E7DC-4B7B-AD88-91F96C4AF6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019CC-CA01-4F03-8E55-E3E088B59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5FDC0-488A-43B2-A32A-857410841E53}"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D4BDC-F5BA-440C-A9F6-6CD59093E705}"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93328-D1E9-4AEC-97D4-EDF456DC5700}"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1B08C-012D-41C1-9AE6-101F9A6442D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6A64A-85B2-4AA8-AE60-C280B99F2C26}"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BFA91-4930-44DB-B78E-0BAD396D3E63}"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2C469-C6F6-49DE-AC38-161DC3F40DE3}"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EF59A-D80E-462F-8F2B-C857974FF11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115A6-10E2-4F96-9ED7-8D9A8602E39A}"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79FB0-0EF8-4AD2-BCDB-C94CCD2FC553}" type="slidenum">
              <a:rPr b="0" lang="ms-MY"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EC90B-D7FF-46B9-ACAA-C42AEB5937BE}"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12E48-BA28-47E0-B3E9-650AF0C25FD7}"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516DB-96C0-4563-B82B-A3389F6BC80D}"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A6338-9C56-4348-A1CB-11897D131B22}"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9424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62626"/>
                </a:solidFill>
                <a:latin typeface="Calibri Light"/>
              </a:rPr>
              <a:t>CASE DISCUSSION 4</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825120" y="4456080"/>
            <a:ext cx="7543800" cy="178128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DR. CHING CHEN HUA</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HOSPITAL SULTANAH BAHIYAH, KEDAH</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MS. MANJULAA DEVI SUBRAMANIAM</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HOSPITAL KUALA LUMPUR, KUALA LUMPUR</a:t>
            </a:r>
            <a:endParaRPr b="0" lang="en-US" sz="20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3" name="Picture 3" descr=""/>
          <p:cNvPicPr/>
          <p:nvPr/>
        </p:nvPicPr>
        <p:blipFill>
          <a:blip r:embed="rId1"/>
          <a:stretch/>
        </p:blipFill>
        <p:spPr>
          <a:xfrm>
            <a:off x="7596360" y="27000"/>
            <a:ext cx="1512720" cy="2322360"/>
          </a:xfrm>
          <a:prstGeom prst="rect">
            <a:avLst/>
          </a:prstGeom>
          <a:ln w="0">
            <a:noFill/>
          </a:ln>
        </p:spPr>
      </p:pic>
      <p:sp>
        <p:nvSpPr>
          <p:cNvPr id="3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22B4A-2F6B-410E-AE7C-4A207387E75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KD in pregnancy</a:t>
            </a:r>
            <a:endParaRPr b="0" lang="en-US" sz="4800" spc="-1" strike="noStrike">
              <a:solidFill>
                <a:srgbClr val="404040"/>
              </a:solidFill>
              <a:latin typeface="Calibri Light"/>
            </a:endParaRPr>
          </a:p>
        </p:txBody>
      </p:sp>
      <p:sp>
        <p:nvSpPr>
          <p:cNvPr id="34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D469B-A3A6-47FA-8678-9DB66A527E9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1" name="Picture 9" descr=""/>
          <p:cNvPicPr/>
          <p:nvPr/>
        </p:nvPicPr>
        <p:blipFill>
          <a:blip r:embed="rId1"/>
          <a:stretch/>
        </p:blipFill>
        <p:spPr>
          <a:xfrm>
            <a:off x="673200" y="1951200"/>
            <a:ext cx="7931160" cy="421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a:t>
            </a:r>
            <a:endParaRPr b="0" lang="en-US" sz="4800" spc="-1" strike="noStrike">
              <a:solidFill>
                <a:srgbClr val="404040"/>
              </a:solidFill>
              <a:latin typeface="Calibri Light"/>
            </a:endParaRPr>
          </a:p>
        </p:txBody>
      </p:sp>
      <p:sp>
        <p:nvSpPr>
          <p:cNvPr id="343" name=""/>
          <p:cNvSpPr txBox="1"/>
          <p:nvPr/>
        </p:nvSpPr>
        <p:spPr>
          <a:xfrm>
            <a:off x="821880" y="1773360"/>
            <a:ext cx="7543800" cy="45338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 28-year-old woman with SLE and lupus nephritis has been on clinic follow-up for 5 years. She is married recently and now she expresses her wish to get pregnant. She denies joint pain, alopecia or oral ulce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Well looking, no malar rash</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ild pedal oedema</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P - 150/90 mmHg</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est - clear</a:t>
            </a:r>
            <a:endParaRPr b="0" lang="en-US" sz="2400" spc="-1" strike="noStrike">
              <a:solidFill>
                <a:srgbClr val="404040"/>
              </a:solidFill>
              <a:latin typeface="Calibri"/>
            </a:endParaRPr>
          </a:p>
        </p:txBody>
      </p:sp>
      <p:sp>
        <p:nvSpPr>
          <p:cNvPr id="34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E7448-39B5-431D-B7BC-8DC335201FC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cont.)</a:t>
            </a:r>
            <a:endParaRPr b="0" lang="en-US" sz="4800" spc="-1" strike="noStrike">
              <a:solidFill>
                <a:srgbClr val="404040"/>
              </a:solidFill>
              <a:latin typeface="Calibri Light"/>
            </a:endParaRPr>
          </a:p>
        </p:txBody>
      </p:sp>
      <p:sp>
        <p:nvSpPr>
          <p:cNvPr id="346"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C: Hb 13 g/dL, TWCC 6.0x109/L, Platelets 200x109/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150 µmol/L, Urea 12 mmol/L, sodium 135 mmol/L, potassium 3.5 mmol/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FEME: protein 3+, RBC 2+</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8FE8C-9E4D-4EF2-9AE0-A44B6E03F43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cont.)</a:t>
            </a:r>
            <a:endParaRPr b="0" lang="en-US" sz="4800" spc="-1" strike="noStrike">
              <a:solidFill>
                <a:srgbClr val="404040"/>
              </a:solidFill>
              <a:latin typeface="Calibri Light"/>
            </a:endParaRPr>
          </a:p>
        </p:txBody>
      </p:sp>
      <p:sp>
        <p:nvSpPr>
          <p:cNvPr id="34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nisolone 1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ndopril 8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zathioprine 100 mg /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xychloroquine 20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97DC1-E91D-4B7B-A1A2-05C40A6C8B5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5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5.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6.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7.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8.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94BB3-64DD-4218-A7C3-92436C0A1B9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5</a:t>
            </a:r>
            <a:endParaRPr b="0" lang="en-US" sz="4800" spc="-1" strike="noStrike">
              <a:solidFill>
                <a:srgbClr val="404040"/>
              </a:solidFill>
              <a:latin typeface="Calibri Light"/>
            </a:endParaRPr>
          </a:p>
        </p:txBody>
      </p:sp>
      <p:sp>
        <p:nvSpPr>
          <p:cNvPr id="35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5.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s she receiving cyclophosphamide befor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dose of cyclophosphamid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y previous history of pregnancy or miscarriages?</a:t>
            </a:r>
            <a:endParaRPr b="0" lang="en-US" sz="2800" spc="-1" strike="noStrike">
              <a:solidFill>
                <a:srgbClr val="404040"/>
              </a:solidFill>
              <a:latin typeface="Calibri"/>
            </a:endParaRPr>
          </a:p>
        </p:txBody>
      </p:sp>
      <p:sp>
        <p:nvSpPr>
          <p:cNvPr id="35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A464E-712C-4EE3-876E-6DA5AB7D3D9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a:t>
            </a:r>
            <a:endParaRPr b="0" lang="en-US" sz="4800" spc="-1" strike="noStrike">
              <a:solidFill>
                <a:srgbClr val="404040"/>
              </a:solidFill>
              <a:latin typeface="Calibri Light"/>
            </a:endParaRPr>
          </a:p>
        </p:txBody>
      </p:sp>
      <p:sp>
        <p:nvSpPr>
          <p:cNvPr id="35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6.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YET. Reas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LE: need to exclude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BP not well controll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mpaired renal funct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eavy proteinuria</a:t>
            </a:r>
            <a:endParaRPr b="0" lang="en-US" sz="2800" spc="-1" strike="noStrike">
              <a:solidFill>
                <a:srgbClr val="404040"/>
              </a:solidFill>
              <a:latin typeface="Calibri"/>
            </a:endParaRPr>
          </a:p>
        </p:txBody>
      </p:sp>
      <p:sp>
        <p:nvSpPr>
          <p:cNvPr id="3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2997E-4329-40B9-8121-FD24127E01F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7</a:t>
            </a:r>
            <a:endParaRPr b="0" lang="en-US" sz="4800" spc="-1" strike="noStrike">
              <a:solidFill>
                <a:srgbClr val="404040"/>
              </a:solidFill>
              <a:latin typeface="Calibri Light"/>
            </a:endParaRPr>
          </a:p>
        </p:txBody>
      </p:sp>
      <p:sp>
        <p:nvSpPr>
          <p:cNvPr id="361" name=""/>
          <p:cNvSpPr txBox="1"/>
          <p:nvPr/>
        </p:nvSpPr>
        <p:spPr>
          <a:xfrm>
            <a:off x="821880" y="1846440"/>
            <a:ext cx="7543800" cy="403056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7. What would you want to counsel her?</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igh risk pregnancy</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eed further investigation to exclude flare of SLE and control the disease first</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SLE during pregnancy and post-delivery</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pre-eclampsia and eclampsia</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renal function</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oetal outcom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2F17E-DC58-40C7-BB24-FAB4C723003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8</a:t>
            </a:r>
            <a:endParaRPr b="0" lang="en-US" sz="4800" spc="-1" strike="noStrike">
              <a:solidFill>
                <a:srgbClr val="404040"/>
              </a:solidFill>
              <a:latin typeface="Calibri Light"/>
            </a:endParaRPr>
          </a:p>
        </p:txBody>
      </p:sp>
      <p:sp>
        <p:nvSpPr>
          <p:cNvPr id="364" name=""/>
          <p:cNvSpPr txBox="1"/>
          <p:nvPr/>
        </p:nvSpPr>
        <p:spPr>
          <a:xfrm>
            <a:off x="821880" y="1846440"/>
            <a:ext cx="7543800" cy="431928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8. How would you like to manage her?</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trol BP.</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Quantify 24-hour urine protein.</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peat serology: c3, c4, ANA titer, antiRo, antiLa.</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peat renal biopsy if she agrees.</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the potential teratogenic medications.</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sider changing azathioprine to MMF depending on the renal biopsy report.</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fer to pre-pregnancy clinic for contraception option.</a:t>
            </a:r>
            <a:endParaRPr b="0" lang="en-US" sz="28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8FDFE-AA41-4BE0-B3A1-4CAFAE16C97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3</a:t>
            </a:r>
            <a:endParaRPr b="0" lang="en-US" sz="4800" spc="-1" strike="noStrike">
              <a:solidFill>
                <a:srgbClr val="404040"/>
              </a:solidFill>
              <a:latin typeface="Calibri Light"/>
            </a:endParaRPr>
          </a:p>
        </p:txBody>
      </p:sp>
      <p:sp>
        <p:nvSpPr>
          <p:cNvPr id="367"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 75-year-old man with hypertension referred for further management of CKD in view of possible future renal replacement therapy. His serum creatinine is 200 µmol/L.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e has no diabetes or ischaemic heart diseas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P: 140/85 mmHg</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est - clear</a:t>
            </a:r>
            <a:endParaRPr b="0" lang="en-US" sz="2400" spc="-1" strike="noStrike">
              <a:solidFill>
                <a:srgbClr val="404040"/>
              </a:solidFill>
              <a:latin typeface="Calibri"/>
            </a:endParaRPr>
          </a:p>
        </p:txBody>
      </p:sp>
      <p:sp>
        <p:nvSpPr>
          <p:cNvPr id="36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1920B-A7FC-4815-86DF-EF721D84F92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a:t>
            </a:r>
            <a:endParaRPr b="0" lang="en-US" sz="4800" spc="-1" strike="noStrike">
              <a:solidFill>
                <a:srgbClr val="404040"/>
              </a:solidFill>
              <a:latin typeface="Calibri Light"/>
            </a:endParaRPr>
          </a:p>
        </p:txBody>
      </p:sp>
      <p:sp>
        <p:nvSpPr>
          <p:cNvPr id="316"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23-year-old woman with lupus nephritis has been on clinic follow-up for 5 years. She is married recently and now she expresses her wish to get pregnant. She denies joint pain, alopecia or oral ulce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looking, no malar rash</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dal oedema</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 130/80 mmHg</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 clear</a:t>
            </a:r>
            <a:endParaRPr b="0" lang="en-US" sz="2800" spc="-1" strike="noStrike">
              <a:solidFill>
                <a:srgbClr val="404040"/>
              </a:solidFill>
              <a:latin typeface="Calibri"/>
            </a:endParaRPr>
          </a:p>
        </p:txBody>
      </p:sp>
      <p:sp>
        <p:nvSpPr>
          <p:cNvPr id="31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837F7-79E8-4791-B90E-34DFBEF9FE6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7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9. What is his eGF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0. What is his CKD st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1. What further information do you w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2. What is the </a:t>
            </a:r>
            <a:r>
              <a:rPr b="0" lang="en-US" sz="2800" spc="-1" strike="noStrike">
                <a:solidFill>
                  <a:srgbClr val="ff0000"/>
                </a:solidFill>
                <a:latin typeface="Calibri"/>
              </a:rPr>
              <a:t>management pla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DA8AA-76FC-4AC1-B661-176286E85F6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a:t>
            </a:r>
            <a:endParaRPr b="0" lang="en-US" sz="4800" spc="-1" strike="noStrike">
              <a:solidFill>
                <a:srgbClr val="404040"/>
              </a:solidFill>
              <a:latin typeface="Calibri Light"/>
            </a:endParaRPr>
          </a:p>
        </p:txBody>
      </p:sp>
      <p:sp>
        <p:nvSpPr>
          <p:cNvPr id="37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9. What is his eGF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GFR = 27.3 ml/min/1.73 m</a:t>
            </a:r>
            <a:r>
              <a:rPr b="0" lang="en-MY" sz="2800" spc="-1" strike="noStrike" baseline="30000">
                <a:solidFill>
                  <a:srgbClr val="000000"/>
                </a:solidFill>
                <a:latin typeface="Calibri"/>
              </a:rPr>
              <a:t>2</a:t>
            </a:r>
            <a:r>
              <a:rPr b="0" lang="en-MY" sz="2800" spc="-1" strike="noStrike">
                <a:solidFill>
                  <a:srgbClr val="000000"/>
                </a:solidFill>
                <a:latin typeface="Calibri"/>
              </a:rPr>
              <a:t>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75DDA-56AC-4DBF-B120-2F05B75A0B0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0</a:t>
            </a:r>
            <a:endParaRPr b="0" lang="en-US" sz="4800" spc="-1" strike="noStrike">
              <a:solidFill>
                <a:srgbClr val="404040"/>
              </a:solidFill>
              <a:latin typeface="Calibri Light"/>
            </a:endParaRPr>
          </a:p>
        </p:txBody>
      </p:sp>
      <p:sp>
        <p:nvSpPr>
          <p:cNvPr id="37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0. </a:t>
            </a:r>
            <a:r>
              <a:rPr b="0" lang="en-MY" sz="2800" spc="-1" strike="noStrike">
                <a:solidFill>
                  <a:srgbClr val="000000"/>
                </a:solidFill>
                <a:latin typeface="Calibri"/>
              </a:rPr>
              <a:t>What is his CKD st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age 4</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7195E-BAC0-4453-81DD-877285C9CA6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1</a:t>
            </a:r>
            <a:endParaRPr b="0" lang="en-US" sz="4800" spc="-1" strike="noStrike">
              <a:solidFill>
                <a:srgbClr val="404040"/>
              </a:solidFill>
              <a:latin typeface="Calibri Light"/>
            </a:endParaRPr>
          </a:p>
        </p:txBody>
      </p:sp>
      <p:sp>
        <p:nvSpPr>
          <p:cNvPr id="379"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1. What further information do you w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e FEM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o4/LFT/VBG</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E62AC-1CD2-4D5E-B472-FC4A3076EAF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3 (cont.)</a:t>
            </a:r>
            <a:endParaRPr b="0" lang="en-US" sz="4800" spc="-1" strike="noStrike">
              <a:solidFill>
                <a:srgbClr val="404040"/>
              </a:solidFill>
              <a:latin typeface="Calibri Light"/>
            </a:endParaRPr>
          </a:p>
        </p:txBody>
      </p:sp>
      <p:sp>
        <p:nvSpPr>
          <p:cNvPr id="38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BFE20-0B9F-4F00-A492-A99190215FF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383" name=""/>
          <p:cNvGraphicFramePr/>
          <p:nvPr/>
        </p:nvGraphicFramePr>
        <p:xfrm>
          <a:off x="468360" y="1773360"/>
          <a:ext cx="8280360" cy="4487760"/>
        </p:xfrm>
        <a:graphic>
          <a:graphicData uri="http://schemas.openxmlformats.org/drawingml/2006/table">
            <a:tbl>
              <a:tblPr/>
              <a:tblGrid>
                <a:gridCol w="1655640"/>
                <a:gridCol w="1656000"/>
                <a:gridCol w="1657080"/>
                <a:gridCol w="1727280"/>
                <a:gridCol w="1584360"/>
              </a:tblGrid>
              <a:tr h="4345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5/3/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0/6/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2/10/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2/2/201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16604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creatin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µmol/L)</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4</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12877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FR </a:t>
                      </a:r>
                      <a:r>
                        <a:rPr b="0" lang="en-US" sz="2800" spc="-1" strike="noStrike">
                          <a:solidFill>
                            <a:srgbClr val="000000"/>
                          </a:solidFill>
                          <a:latin typeface="Calibri"/>
                        </a:rPr>
                        <a:t>(</a:t>
                      </a:r>
                      <a:r>
                        <a:rPr b="0" lang="en-MY" sz="2400" spc="-1" strike="noStrike">
                          <a:solidFill>
                            <a:srgbClr val="000000"/>
                          </a:solidFill>
                          <a:latin typeface="Calibri"/>
                        </a:rPr>
                        <a:t>ml/min/1.73 m</a:t>
                      </a:r>
                      <a:r>
                        <a:rPr b="0" lang="en-MY" sz="2400" spc="-1" strike="noStrike" baseline="30000">
                          <a:solidFill>
                            <a:srgbClr val="000000"/>
                          </a:solidFill>
                          <a:latin typeface="Calibri"/>
                        </a:rPr>
                        <a:t>2</a:t>
                      </a:r>
                      <a:r>
                        <a:rPr b="0" lang="en-MY" sz="2400" spc="-1" strike="noStrike">
                          <a:solidFill>
                            <a:srgbClr val="000000"/>
                          </a:solidFill>
                          <a:latin typeface="Calibri"/>
                        </a:rPr>
                        <a:t> </a:t>
                      </a:r>
                      <a:r>
                        <a:rPr b="0" lang="en-MY" sz="2800" spc="-1" strike="noStrike">
                          <a:solidFill>
                            <a:srgbClr val="000000"/>
                          </a:solidFill>
                          <a:latin typeface="Calibri"/>
                        </a:rPr>
                        <a:t>)</a:t>
                      </a:r>
                      <a:endParaRPr b="0" lang="en-US" sz="2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80028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protein</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e</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ative</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80028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CR (mg/mmol)</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6</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8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2. What is the management now?</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3. Does this patient need RRT orientation?</a:t>
            </a:r>
            <a:endParaRPr b="0" lang="en-US" sz="2800" spc="-1" strike="noStrike">
              <a:solidFill>
                <a:srgbClr val="404040"/>
              </a:solidFill>
              <a:latin typeface="Calibri"/>
            </a:endParaRPr>
          </a:p>
        </p:txBody>
      </p:sp>
      <p:sp>
        <p:nvSpPr>
          <p:cNvPr id="38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266A7-FD53-4EBC-8258-CCA8B6CD56A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PG CKD2 says…..</a:t>
            </a:r>
            <a:endParaRPr b="0" lang="en-US" sz="4800" spc="-1" strike="noStrike">
              <a:solidFill>
                <a:srgbClr val="404040"/>
              </a:solidFill>
              <a:latin typeface="Calibri Light"/>
            </a:endParaRPr>
          </a:p>
        </p:txBody>
      </p:sp>
      <p:sp>
        <p:nvSpPr>
          <p:cNvPr id="38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B01C6-0E28-4BF6-BA57-A098C1EF453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9" name="Picture 5" descr=""/>
          <p:cNvPicPr/>
          <p:nvPr/>
        </p:nvPicPr>
        <p:blipFill>
          <a:blip r:embed="rId1"/>
          <a:stretch/>
        </p:blipFill>
        <p:spPr>
          <a:xfrm>
            <a:off x="466560" y="2349360"/>
            <a:ext cx="824400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4</a:t>
            </a:r>
            <a:endParaRPr b="0" lang="en-US" sz="4800" spc="-1" strike="noStrike">
              <a:solidFill>
                <a:srgbClr val="404040"/>
              </a:solidFill>
              <a:latin typeface="Calibri Light"/>
            </a:endParaRPr>
          </a:p>
        </p:txBody>
      </p:sp>
      <p:sp>
        <p:nvSpPr>
          <p:cNvPr id="391" name=""/>
          <p:cNvSpPr txBox="1"/>
          <p:nvPr/>
        </p:nvSpPr>
        <p:spPr>
          <a:xfrm>
            <a:off x="821880" y="1846080"/>
            <a:ext cx="7543800" cy="446220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r. Y, a 45-year-old Chinese male, presents to the clinic today with newly diagnosed diabetes mellitus and CK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dy weight: 85 kg</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tal signs: BP - 132/84 mmHg, HR - 84/min</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following are some of his lab findings:</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erum creatinine - 120 µmol/L</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asting blood glucose - 12.2 mmol/L</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bA1c - 9.5%</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 (alanine transaminase) – 41 IU/L </a:t>
            </a:r>
            <a:r>
              <a:rPr b="0" lang="en-US" sz="2400" spc="-1" strike="noStrike">
                <a:solidFill>
                  <a:srgbClr val="ff0000"/>
                </a:solidFill>
                <a:latin typeface="Calibri"/>
              </a:rPr>
              <a:t>(normal: 7-56 IU/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64361-1EED-44A3-9775-738A30A2E9B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4 (cont.)</a:t>
            </a:r>
            <a:endParaRPr b="0" lang="en-US" sz="4800" spc="-1" strike="noStrike">
              <a:solidFill>
                <a:srgbClr val="404040"/>
              </a:solidFill>
              <a:latin typeface="Calibri Light"/>
            </a:endParaRPr>
          </a:p>
        </p:txBody>
      </p:sp>
      <p:sp>
        <p:nvSpPr>
          <p:cNvPr id="394" name=""/>
          <p:cNvSpPr txBox="1"/>
          <p:nvPr/>
        </p:nvSpPr>
        <p:spPr>
          <a:xfrm>
            <a:off x="821880" y="1846440"/>
            <a:ext cx="7543800" cy="424656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requires initiation of metformin for his uncontrolled diabetes.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Q12. What would be the appropriate initiation dose for him?</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m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g O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C7103-DBC7-485F-83C6-B0110B7F151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2</a:t>
            </a:r>
            <a:endParaRPr b="0" lang="en-US" sz="4800" spc="-1" strike="noStrike">
              <a:solidFill>
                <a:srgbClr val="404040"/>
              </a:solidFill>
              <a:latin typeface="Calibri Light"/>
            </a:endParaRPr>
          </a:p>
        </p:txBody>
      </p:sp>
      <p:sp>
        <p:nvSpPr>
          <p:cNvPr id="397"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formin requires estimation of kidney function for drug dosing adjustment based on creatinine clearanc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calculated CrCl is 82.8 ml/min/1.73 m</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FR 60 - 90: no adjustment require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se: 500 - 1000 mg B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4BDC6-3ABB-40C0-BE3D-AE9F7F7FBCF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cont.)</a:t>
            </a:r>
            <a:endParaRPr b="0" lang="en-US" sz="4800" spc="-1" strike="noStrike">
              <a:solidFill>
                <a:srgbClr val="404040"/>
              </a:solidFill>
              <a:latin typeface="Calibri Light"/>
            </a:endParaRPr>
          </a:p>
        </p:txBody>
      </p:sp>
      <p:sp>
        <p:nvSpPr>
          <p:cNvPr id="319"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C: Hb 13 g/dL, TWCC 6.0x10</a:t>
            </a:r>
            <a:r>
              <a:rPr b="0" lang="en-US" sz="2400" spc="-1" strike="noStrike" baseline="30000">
                <a:solidFill>
                  <a:srgbClr val="000000"/>
                </a:solidFill>
                <a:latin typeface="Calibri"/>
              </a:rPr>
              <a:t>9</a:t>
            </a:r>
            <a:r>
              <a:rPr b="0" lang="en-US" sz="2400" spc="-1" strike="noStrike">
                <a:solidFill>
                  <a:srgbClr val="000000"/>
                </a:solidFill>
                <a:latin typeface="Calibri"/>
              </a:rPr>
              <a:t>/L, Platelet 200x10</a:t>
            </a:r>
            <a:r>
              <a:rPr b="0" lang="en-US" sz="2400" spc="-1" strike="noStrike" baseline="30000">
                <a:solidFill>
                  <a:srgbClr val="000000"/>
                </a:solidFill>
                <a:latin typeface="Calibri"/>
              </a:rPr>
              <a:t>9</a:t>
            </a:r>
            <a:r>
              <a:rPr b="0" lang="en-US" sz="2400" spc="-1" strike="noStrike">
                <a:solidFill>
                  <a:srgbClr val="000000"/>
                </a:solidFill>
                <a:latin typeface="Calibri"/>
              </a:rPr>
              <a:t>/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80 µmol/L, Urea 5 mmol/, sodium 135 mol/L, potassium 3.5 mmol/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FEME: protein - trace, RBC - nil</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3C54E-34B5-42BD-9C74-4DC95833944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404040"/>
                </a:solidFill>
                <a:latin typeface="Calibri Light"/>
              </a:rPr>
              <a:t>Case 4 (cont.)</a:t>
            </a:r>
            <a:endParaRPr b="0" lang="en-US" sz="4800" spc="-1" strike="noStrike">
              <a:solidFill>
                <a:srgbClr val="404040"/>
              </a:solidFill>
              <a:latin typeface="Calibri Light"/>
            </a:endParaRPr>
          </a:p>
        </p:txBody>
      </p:sp>
      <p:sp>
        <p:nvSpPr>
          <p:cNvPr id="400" name=""/>
          <p:cNvSpPr txBox="1"/>
          <p:nvPr/>
        </p:nvSpPr>
        <p:spPr>
          <a:xfrm>
            <a:off x="822240" y="1846080"/>
            <a:ext cx="7710480" cy="439092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 Y attends his subsequent follow-up visits and is closely followed up in your clinic. </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years later (age of 50 years), his blood investigations are as following:</a:t>
            </a:r>
            <a:endParaRPr b="0" lang="en-US" sz="28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 - 180 µmol/L </a:t>
            </a:r>
            <a:endParaRPr b="0" lang="en-US" sz="24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ing blood sugar - 7.8 mmol/L</a:t>
            </a:r>
            <a:endParaRPr b="0" lang="en-US" sz="24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bA1c -  8% </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 - 79 kg</a:t>
            </a:r>
            <a:endParaRPr b="0" lang="en-US" sz="2800" spc="-1" strike="noStrike">
              <a:solidFill>
                <a:srgbClr val="404040"/>
              </a:solidFill>
              <a:latin typeface="Calibri"/>
            </a:endParaRPr>
          </a:p>
          <a:p>
            <a:pPr marL="172800" indent="-1728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3. What would be the best plan to improve Mr. Y’s glycaemic control?</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6E21B-BFAF-42B2-9D93-679367C8CC5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3</a:t>
            </a:r>
            <a:endParaRPr b="0" lang="en-US" sz="4800" spc="-1" strike="noStrike">
              <a:solidFill>
                <a:srgbClr val="404040"/>
              </a:solidFill>
              <a:latin typeface="Calibri Light"/>
            </a:endParaRPr>
          </a:p>
        </p:txBody>
      </p:sp>
      <p:sp>
        <p:nvSpPr>
          <p:cNvPr id="403" name=""/>
          <p:cNvSpPr txBox="1"/>
          <p:nvPr/>
        </p:nvSpPr>
        <p:spPr>
          <a:xfrm>
            <a:off x="821880" y="1846080"/>
            <a:ext cx="7543800" cy="4390920"/>
          </a:xfrm>
          <a:prstGeom prst="rect">
            <a:avLst/>
          </a:prstGeom>
          <a:noFill/>
          <a:ln w="0">
            <a:noFill/>
          </a:ln>
        </p:spPr>
        <p:txBody>
          <a:bodyPr lIns="0" rIns="0" anchor="t">
            <a:normAutofit/>
          </a:bodyPr>
          <a:p>
            <a:pPr marL="363600" indent="-363600">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progression of kidney function to ascertain appropriateness of drug dosing.</a:t>
            </a:r>
            <a:endParaRPr b="0" lang="en-US" sz="28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d CrCl: 48.6 ml/min/1.73m</a:t>
            </a:r>
            <a:r>
              <a:rPr b="0" lang="en-US" sz="2400" spc="-1" strike="noStrike" baseline="30000">
                <a:solidFill>
                  <a:srgbClr val="000000"/>
                </a:solidFill>
                <a:latin typeface="Calibri"/>
              </a:rPr>
              <a:t>2</a:t>
            </a:r>
            <a:endParaRPr b="0" lang="en-US" sz="24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 of metformin for CrCl 30 - 60 ml/min/1.73m</a:t>
            </a:r>
            <a:r>
              <a:rPr b="0" lang="en-US" sz="2400" spc="-1" strike="noStrike" baseline="30000">
                <a:solidFill>
                  <a:srgbClr val="000000"/>
                </a:solidFill>
                <a:latin typeface="Calibri"/>
              </a:rPr>
              <a:t>2</a:t>
            </a:r>
            <a:r>
              <a:rPr b="0" lang="en-US" sz="2400" spc="-1" strike="noStrike">
                <a:solidFill>
                  <a:srgbClr val="000000"/>
                </a:solidFill>
                <a:latin typeface="Calibri"/>
              </a:rPr>
              <a:t>: 50% of normal dose</a:t>
            </a:r>
            <a:endParaRPr b="0" lang="en-US" sz="24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1 g BD </a:t>
            </a:r>
            <a:r>
              <a:rPr b="0" lang="en-US" sz="2400" spc="-1" strike="noStrike">
                <a:solidFill>
                  <a:srgbClr val="000000"/>
                </a:solidFill>
                <a:latin typeface="Wingdings"/>
                <a:ea typeface="Wingdings"/>
              </a:rPr>
              <a:t></a:t>
            </a:r>
            <a:r>
              <a:rPr b="0" lang="en-US" sz="2400" spc="-1" strike="noStrike">
                <a:solidFill>
                  <a:srgbClr val="000000"/>
                </a:solidFill>
                <a:latin typeface="Calibri"/>
              </a:rPr>
              <a:t> 500 mg BD</a:t>
            </a:r>
            <a:endParaRPr b="0" lang="en-US" sz="24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bA1c improves; however has not achieved target HbA1c of &lt;7% yet.</a:t>
            </a:r>
            <a:endParaRPr b="0" lang="en-US" sz="28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Consider adding a second anti-diabetic agent.</a:t>
            </a:r>
            <a:endParaRPr b="0" lang="en-US" sz="24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0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46F78-6D74-42E1-8399-622ECA5E88F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5</a:t>
            </a:r>
            <a:endParaRPr b="0" lang="en-US" sz="4800" spc="-1" strike="noStrike">
              <a:solidFill>
                <a:srgbClr val="404040"/>
              </a:solidFill>
              <a:latin typeface="Calibri Light"/>
            </a:endParaRPr>
          </a:p>
        </p:txBody>
      </p:sp>
      <p:sp>
        <p:nvSpPr>
          <p:cNvPr id="406" name=""/>
          <p:cNvSpPr txBox="1"/>
          <p:nvPr/>
        </p:nvSpPr>
        <p:spPr>
          <a:xfrm>
            <a:off x="822240" y="1700280"/>
            <a:ext cx="7997760" cy="461304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dam R, a 65-year-old CKD patient, presents with loss of appetite and vomiting for the past 2 days.</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orbidities: diabetes mellitus, hypertension, IHD</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examination: </a:t>
            </a:r>
            <a:endParaRPr b="0" lang="en-US" sz="2400" spc="-1" strike="noStrike">
              <a:solidFill>
                <a:srgbClr val="404040"/>
              </a:solidFill>
              <a:latin typeface="Calibri"/>
            </a:endParaRPr>
          </a:p>
          <a:p>
            <a:pPr marL="172800" indent="-1728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50 kg</a:t>
            </a:r>
            <a:endParaRPr b="0" lang="en-US" sz="2000" spc="-1" strike="noStrike">
              <a:solidFill>
                <a:srgbClr val="404040"/>
              </a:solidFill>
              <a:latin typeface="Calibri"/>
            </a:endParaRPr>
          </a:p>
          <a:p>
            <a:pPr marL="172800" indent="-1728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102/76 mm Hg, PR: 75/min, temperature: afebrile</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 results: </a:t>
            </a:r>
            <a:endParaRPr b="0" lang="en-US" sz="24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P: Na - 135 µmol/L, K - 4.9 µmol/L, SCr -  150 µmol/L, Urea -  8.7 µmol/L</a:t>
            </a:r>
            <a:endParaRPr b="0" lang="en-US" sz="20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ing blood sugar: 4.2 mmol/L; HbA1c: 7.5%</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tions: </a:t>
            </a:r>
            <a:endParaRPr b="0" lang="en-US" sz="24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Metformin 500 mg BD</a:t>
            </a:r>
            <a:endParaRPr b="0" lang="en-US" sz="20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Gliclazide 80 mg BD</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08027-F37A-4909-BC3E-29C379F6AE3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4</a:t>
            </a:r>
            <a:endParaRPr b="0" lang="en-US" sz="4800" spc="-1" strike="noStrike">
              <a:solidFill>
                <a:srgbClr val="404040"/>
              </a:solidFill>
              <a:latin typeface="Calibri Light"/>
            </a:endParaRPr>
          </a:p>
        </p:txBody>
      </p:sp>
      <p:sp>
        <p:nvSpPr>
          <p:cNvPr id="40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you do in terms of her diabetic 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254FD-97A0-4FEF-B46F-BF0C0958223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4</a:t>
            </a:r>
            <a:endParaRPr b="0" lang="en-US" sz="4800" spc="-1" strike="noStrike">
              <a:solidFill>
                <a:srgbClr val="404040"/>
              </a:solidFill>
              <a:latin typeface="Calibri Light"/>
            </a:endParaRPr>
          </a:p>
        </p:txBody>
      </p:sp>
      <p:sp>
        <p:nvSpPr>
          <p:cNvPr id="41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CrCl is calculated as </a:t>
            </a:r>
            <a:r>
              <a:rPr b="0" lang="en-US" sz="2800" spc="-1" strike="noStrike">
                <a:solidFill>
                  <a:srgbClr val="ff0000"/>
                </a:solidFill>
                <a:latin typeface="Calibri"/>
              </a:rPr>
              <a:t>26 </a:t>
            </a:r>
            <a:r>
              <a:rPr b="0" lang="en-US" sz="2800" spc="-1" strike="noStrike">
                <a:solidFill>
                  <a:srgbClr val="000000"/>
                </a:solidFill>
                <a:latin typeface="Calibri"/>
              </a:rPr>
              <a:t>ml/min/1.73 m</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HbA1c is 7.5% which is generally acceptable for her co-morbidities (with lowish fasting blood glucos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ation of vomiting</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 metformin - contraindicated in CrCl &lt;30 ml/min/1.73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81D8B-9A50-4D3F-9FEB-7C0C5160116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5</a:t>
            </a:r>
            <a:endParaRPr b="0" lang="en-US" sz="4800" spc="-1" strike="noStrike">
              <a:solidFill>
                <a:srgbClr val="404040"/>
              </a:solidFill>
              <a:latin typeface="Calibri Light"/>
            </a:endParaRPr>
          </a:p>
        </p:txBody>
      </p:sp>
      <p:sp>
        <p:nvSpPr>
          <p:cNvPr id="41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you address this case if Madam R weighs 60 kg instea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43D08-F25F-4AB7-BABE-44900681839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5</a:t>
            </a:r>
            <a:endParaRPr b="0" lang="en-US" sz="4800" spc="-1" strike="noStrike">
              <a:solidFill>
                <a:srgbClr val="404040"/>
              </a:solidFill>
              <a:latin typeface="Calibri Light"/>
            </a:endParaRPr>
          </a:p>
        </p:txBody>
      </p:sp>
      <p:sp>
        <p:nvSpPr>
          <p:cNvPr id="418" name=""/>
          <p:cNvSpPr txBox="1"/>
          <p:nvPr/>
        </p:nvSpPr>
        <p:spPr>
          <a:xfrm>
            <a:off x="821880" y="1846440"/>
            <a:ext cx="7543800" cy="4022640"/>
          </a:xfrm>
          <a:prstGeom prst="rect">
            <a:avLst/>
          </a:prstGeom>
          <a:noFill/>
          <a:ln w="0">
            <a:noFill/>
          </a:ln>
        </p:spPr>
        <p:txBody>
          <a:bodyPr lIns="0" rIns="0" anchor="t">
            <a:normAutofit fontScale="98000"/>
          </a:bodyPr>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CrCl would be calculated as 31.3 ml/min/1.73 m</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Cl 30 - 45 ml/min/1.73m</a:t>
            </a:r>
            <a:r>
              <a:rPr b="0" lang="en-US" sz="2800" spc="-1" strike="noStrike" baseline="30000">
                <a:solidFill>
                  <a:srgbClr val="000000"/>
                </a:solidFill>
                <a:latin typeface="Calibri"/>
              </a:rPr>
              <a:t>2</a:t>
            </a:r>
            <a:r>
              <a:rPr b="0" lang="en-US" sz="2800" spc="-1" strike="noStrike">
                <a:solidFill>
                  <a:srgbClr val="000000"/>
                </a:solidFill>
                <a:latin typeface="Calibri"/>
              </a:rPr>
              <a:t>: 50% of the dos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ontinue metformin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a weight difference of 10 kg (between 50 kg and 60 kg) yields an almost 5 ml/min difference of kidney function. This leads to a completely different decision in adjusting the patient’s medication dos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229B5-4667-4FE4-B565-F493849AE20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Take home message</a:t>
            </a:r>
            <a:endParaRPr b="0" lang="en-US" sz="4800" spc="-1" strike="noStrike">
              <a:solidFill>
                <a:srgbClr val="404040"/>
              </a:solidFill>
              <a:latin typeface="Calibri Light"/>
            </a:endParaRPr>
          </a:p>
        </p:txBody>
      </p:sp>
      <p:sp>
        <p:nvSpPr>
          <p:cNvPr id="421" name=""/>
          <p:cNvSpPr txBox="1"/>
          <p:nvPr/>
        </p:nvSpPr>
        <p:spPr>
          <a:xfrm>
            <a:off x="821880" y="1846080"/>
            <a:ext cx="7543800" cy="417492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drugs use Cockroft-Gault formula (CrCl) to estimate drug dosing adjustment in stable CKD except for some newer drugs that use eGFR. Refer to the product leaflet if unsure which one to be used.</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patient factors (e.g. weight, Scr, age) over time will require consistent assessment of appropriate drug dosing to avoid over- or under-dosing of drugs.</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2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37B91-0337-4F71-AAB0-D437AABA11D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8000" spc="-1" strike="noStrike">
                <a:solidFill>
                  <a:srgbClr val="262626"/>
                </a:solidFill>
                <a:latin typeface="Calibri Light"/>
              </a:rPr>
              <a:t>Thank you</a:t>
            </a:r>
            <a:endParaRPr b="0" lang="en-US" sz="8000" spc="-1" strike="noStrike">
              <a:solidFill>
                <a:srgbClr val="404040"/>
              </a:solidFill>
              <a:latin typeface="Calibri Light"/>
            </a:endParaRPr>
          </a:p>
        </p:txBody>
      </p:sp>
      <p:sp>
        <p:nvSpPr>
          <p:cNvPr id="42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C7A7E-EC9C-4215-9989-790326989F4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5" name="Picture 3" descr=""/>
          <p:cNvPicPr/>
          <p:nvPr/>
        </p:nvPicPr>
        <p:blipFill>
          <a:blip r:embed="rId1"/>
          <a:stretch/>
        </p:blipFill>
        <p:spPr>
          <a:xfrm>
            <a:off x="7596360" y="27000"/>
            <a:ext cx="151272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cont.)</a:t>
            </a:r>
            <a:endParaRPr b="0" lang="en-US" sz="4800" spc="-1" strike="noStrike">
              <a:solidFill>
                <a:srgbClr val="404040"/>
              </a:solidFill>
              <a:latin typeface="Calibri Light"/>
            </a:endParaRPr>
          </a:p>
        </p:txBody>
      </p:sp>
      <p:sp>
        <p:nvSpPr>
          <p:cNvPr id="322"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nisolone 1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ndopril 8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cophenolate mofetil  1 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xychloroquin 200 mg/day</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9A345-8F7D-4CC7-8C25-3C5E8821246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2.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4.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4896E-6763-4EC1-A724-FF2BA7FF316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a:t>
            </a:r>
            <a:endParaRPr b="0" lang="en-US" sz="4800" spc="-1" strike="noStrike">
              <a:solidFill>
                <a:srgbClr val="404040"/>
              </a:solidFill>
              <a:latin typeface="Calibri Light"/>
            </a:endParaRPr>
          </a:p>
        </p:txBody>
      </p:sp>
      <p:sp>
        <p:nvSpPr>
          <p:cNvPr id="32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s she receiving cyclophosphamide befor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f yes, when was her last dose of cyclophosphamid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y previous history of pregnancy or miscarriag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93B7C-8832-46B5-98C9-80187061D78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2</a:t>
            </a:r>
            <a:endParaRPr b="0" lang="en-US" sz="4800" spc="-1" strike="noStrike">
              <a:solidFill>
                <a:srgbClr val="404040"/>
              </a:solidFill>
              <a:latin typeface="Calibri Light"/>
            </a:endParaRPr>
          </a:p>
        </p:txBody>
      </p:sp>
      <p:sp>
        <p:nvSpPr>
          <p:cNvPr id="33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2.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S. Reas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E in remiss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al proteinur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well controll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renal function</a:t>
            </a:r>
            <a:endParaRPr b="0" lang="en-US" sz="2800" spc="-1" strike="noStrike">
              <a:solidFill>
                <a:srgbClr val="404040"/>
              </a:solidFill>
              <a:latin typeface="Calibri"/>
            </a:endParaRPr>
          </a:p>
        </p:txBody>
      </p:sp>
      <p:sp>
        <p:nvSpPr>
          <p:cNvPr id="33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40710-5BD1-4EA5-A26E-21DE7C9B17A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a:t>
            </a:r>
            <a:endParaRPr b="0" lang="en-US" sz="4800" spc="-1" strike="noStrike">
              <a:solidFill>
                <a:srgbClr val="404040"/>
              </a:solidFill>
              <a:latin typeface="Calibri Light"/>
            </a:endParaRPr>
          </a:p>
        </p:txBody>
      </p:sp>
      <p:sp>
        <p:nvSpPr>
          <p:cNvPr id="33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igh risk pregnancy: need close monitoring</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flare of SLE during pregnancy and post-delivery</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pre-eclampsia and eclamp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renal funct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oetal outcom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DC241-F360-4B96-9B88-01C0FB98844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4</a:t>
            </a:r>
            <a:endParaRPr b="0" lang="en-US" sz="4800" spc="-1" strike="noStrike">
              <a:solidFill>
                <a:srgbClr val="404040"/>
              </a:solidFill>
              <a:latin typeface="Calibri Light"/>
            </a:endParaRPr>
          </a:p>
        </p:txBody>
      </p:sp>
      <p:sp>
        <p:nvSpPr>
          <p:cNvPr id="33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4.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the potential teratogenic medicatio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perindopri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hange MMF to Azathioprine (pregnancy category: 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tinue HCQ (pregnancy category: 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A1B40-B320-468F-B994-9D4CDA3107C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4T09:53:13Z</dcterms:created>
  <dc:creator>user</dc:creator>
  <dc:description/>
  <dc:language>en-US</dc:language>
  <cp:lastModifiedBy>Chin Eu</cp:lastModifiedBy>
  <dcterms:modified xsi:type="dcterms:W3CDTF">2019-04-29T02:41:08Z</dcterms:modified>
  <cp:revision>164</cp:revision>
  <dc:subject/>
  <dc:title>SCREENING &amp; DIAGNOSIS</dc:title>
</cp:coreProperties>
</file>